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34680" y="507600"/>
            <a:ext cx="8915400" cy="871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ra manera muy linda de conocer a Dios y tenerlo en el corazón, es cantando y alabando con músic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ios le gustan las canciones y la música que hacemos para alabarlo y celebrar su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cantamos del amor de Dios, nos aprendemos las cosas lindas que dicen esas cancio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celebran el amor de Dios, son felices de corazón.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34680" y="1270080"/>
            <a:ext cx="89154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onces estamos aprendiendo que conocer a Dios es relacionarnos con él. Tener una relación es tener una amist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Jesús dijo que el secreto de la salvación es conocerlo, quería decir que el secreto era relacionarse mucho con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tienen una relación con Dios, lo conoc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1360" y="456840"/>
            <a:ext cx="944856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Por qué es tan importante relacionarse con Dios y conocer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ha hecho lindas promesa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a amar a Dios hay que tener confianza en é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Biblia la palabra confianza es F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s que confían en Dios, tienen mucha f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Los que vivimos por fe, somos salvo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35040" y="456840"/>
            <a:ext cx="922032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 manera muy importante para conocer a Dios es leyendo la Bibl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s historias de la Biblia, vemos cómo Dios ayudó y amó a sus hijos. Así conocemos más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s historias de Jesús vemos cómo es Dios, porque Jesús dijo: “El que me ha visto a mí ha visto al Padre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ús enseñó que Dios es amoro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11360" y="533520"/>
            <a:ext cx="861048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almente, cuando vamos a la iglesia a adorar con otros que también aman a Dios, nos acercamos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ama, y nos enseña a amar a la g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la iglesia conocemos gente que Dios ama y ellos nos dan amor en el nombre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conocemos a Dios, amamos a 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025520"/>
            <a:ext cx="970272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Buscando lo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hallará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11000" y="837720"/>
            <a:ext cx="883908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estudiar cómo buscar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mbién vamos a estudiar por qué es importante aprender cómo es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día, mientras Jesús oraba, le dijo al Padre: “Esto es la vida eterna, que te conozcan a ti…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ús dijo que los que se salvan, conocen bien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11000" y="1270080"/>
            <a:ext cx="89154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el Génesis, la Biblia cuenta la historia de Eno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oc era un hombre que hablaba mucho con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oc y Dios eran buenos amigos y se conocían much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Y caminó  Enoc con Dios y Dios se lo llevó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11360" y="380520"/>
            <a:ext cx="9144000" cy="906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 más lindo que una persona puede hacer en su vida es hablar mucho con Dios y ser su ami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quiere que lo conozcamos bien y veamos lo amoroso que él 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hos hombres y mujeres en la Biblia eran felices porque hablaban mucho con Dios y lo conocían. Jesús era u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conocen bien a Dios, Dios los llevará al cie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11360" y="583920"/>
            <a:ext cx="8991360" cy="848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pregunta que podemos hacer hoy, es ¿Cómo puedo llegar a conocer a 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y cosas que podemos hacer para buscar estar cerca de Dios y, cuando las hacemos, él nos bend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adoramos a Dios, él nos ayuda a conocer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conocen bien a Dios, Dios los llevará al cie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3504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y a decirte la formas para buscar a Dios y conocer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ios le gusta cuando hablamos con é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edes hablar con Dios orando, a veces con tus pensamien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hablan con Dios, él los ayuda a conocer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11360" y="1041120"/>
            <a:ext cx="906768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hables con Dios puedes decirle cualquier cos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lo ha visto todo y nada le sorprende, pero quiere que tú le cuentes todo, tu corazón es más feliz cuando le habl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ios le podemos contar nuestros secretos para que nos ayu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hablan con Dios, son más feli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ra forma de conocer mejor a Dios, es hablando de él con ot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le contamos a otros de Dios y de como nos hace felices, él nos ayuda a saber qué dec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Dios nos ayuda a saber qué decir, aprendemos más de é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os que hablan con Dios, aprenden mucho acerca de é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6:32:52Z</dcterms:created>
  <dc:creator/>
  <dc:description/>
  <dc:language>en-US</dc:language>
  <cp:lastModifiedBy>Freddy Fernandez</cp:lastModifiedBy>
  <dcterms:modified xsi:type="dcterms:W3CDTF">2013-02-28T16:06:03Z</dcterms:modified>
  <cp:revision>19</cp:revision>
  <dc:subject/>
  <dc:title>Slide 1</dc:title>
</cp:coreProperties>
</file>